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19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15.png" ContentType="image/png"/>
  <Override PartName="/ppt/media/image22.gif" ContentType="image/gif"/>
  <Override PartName="/ppt/media/image14.gif" ContentType="image/gif"/>
  <Override PartName="/ppt/media/image31.jpeg" ContentType="image/jpeg"/>
  <Override PartName="/ppt/media/click.wav" ContentType="audio/x-wav"/>
  <Override PartName="/ppt/media/image13.gif" ContentType="image/gif"/>
  <Override PartName="/ppt/media/image1.jpeg" ContentType="image/jpeg"/>
  <Override PartName="/ppt/media/image3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36.jpeg" ContentType="image/jpeg"/>
  <Override PartName="/ppt/media/image38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0.gif" ContentType="image/gif"/>
  <Override PartName="/ppt/media/image41.png" ContentType="image/png"/>
  <Override PartName="/ppt/media/image42.jpeg" ContentType="image/jpeg"/>
  <Override PartName="/ppt/media/image34.wmf" ContentType="image/x-wmf"/>
  <Override PartName="/ppt/media/image43.jpeg" ContentType="image/jpeg"/>
  <Override PartName="/ppt/media/image44.wmf" ContentType="image/x-wmf"/>
  <Override PartName="/ppt/media/image45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5.wmf" ContentType="image/x-wmf"/>
  <Override PartName="/ppt/media/image39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EE5-0DA7-44B8-9DCE-6D020398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D8C-78C0-4CCF-9025-0CBB83CD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EC0-D4E1-4F80-B363-D4AB00E6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70D-30A5-4FEA-BC27-6A30D5CA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7E8-42D4-45DB-8CF2-3E4C3EF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F62-90CC-4759-B1BF-817B8A6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2DF-F995-4BE3-9C2C-51F946ED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F7B-DC00-4773-9910-3F3A2B1E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542-7BC3-4B59-972C-4F1FEF5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7E7-5A18-410C-9813-698F69E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384-5F62-450C-A4DE-5444AF8A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60A-C01A-43A2-A23E-C34CB44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023F-F830-4BEE-9A57-9E92D7676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13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1.jpeg"/><Relationship Id="rId4" Type="http://schemas.openxmlformats.org/officeDocument/2006/relationships/image" Target="../media/image43.jpe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1295280" y="3124080"/>
            <a:ext cx="52578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ff3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欢迎光临、指导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ccff3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8839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2857680" y="4724280"/>
            <a:ext cx="5715360" cy="3810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332000" y="-254808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6720" y="-290844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692360" y="-550800"/>
            <a:ext cx="1224144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10080" y="855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比一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57640" y="1916280"/>
            <a:ext cx="40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１、请你设计一句关于诚信的公益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告用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２、请你搜集关于诚信的名人名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格言、成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-963720"/>
            <a:ext cx="7902720" cy="815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26920" y="1989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请你设计关于“诚信”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警示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　　倡导人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觉诚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165600">
            <a:off x="1258560" y="47628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cc"/>
                </a:solidFill>
                <a:latin typeface="Arial"/>
                <a:ea typeface="隶书"/>
              </a:rPr>
              <a:t>比一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0890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3213000"/>
            <a:ext cx="55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例如：金钱有价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诚信无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ShockwaveFlash1"/>
          <p:cNvGraphicFramePr/>
          <p:nvPr/>
        </p:nvGraphicFramePr>
        <p:xfrm>
          <a:off x="1258920" y="1268280"/>
          <a:ext cx="6408720" cy="489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268280"/>
                    <a:ext cx="6408720" cy="4897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09480" y="2421000"/>
            <a:ext cx="359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打造诚信市场，繁荣淳安经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人诚信，生活更美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676160" cy="1276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9528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895480" y="5029200"/>
            <a:ext cx="3006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ShockwaveFlash1"/>
          <p:cNvGraphicFramePr/>
          <p:nvPr/>
        </p:nvGraphicFramePr>
        <p:xfrm>
          <a:off x="0" y="0"/>
          <a:ext cx="914256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238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133720" y="1905120"/>
            <a:ext cx="46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cc"/>
                </a:solidFill>
                <a:latin typeface="Arial"/>
                <a:ea typeface="隶书"/>
              </a:rPr>
              <a:t>谢谢同学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cc"/>
                </a:solidFill>
                <a:latin typeface="Arial"/>
                <a:ea typeface="隶书"/>
              </a:rPr>
              <a:t>　再　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4140360" y="-17557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　　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１９８０年，贝兆汉接手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亏损严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广州白云山制药厂。当时该厂只有一个制药车间，四口铜锅。１９８２年，贝厂长率先提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五包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即在各厂家普遍提出的“三包”（包修、包退、包换）之外，还包产品降价损失和药品淘汰损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132000" y="-146700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承诺刚出，考验来了。这一年，国家卫生部门颁布了淘汰１２７种药品的决定。一箱箱出厂不久的药品被退了回来，索赔的信函雪片般飞来。厂里人傻眼了，这要赔多少钱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914400" y="51814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但是厂长贝兆汉一咬牙说：“照赔！该赔多少就赔多少！我们说话算数。”硬是赔进几百万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708360" y="-27637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27280" y="692280"/>
            <a:ext cx="243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近，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经济半小时》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181080" y="6237360"/>
            <a:ext cx="91440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7:22Z</dcterms:modified>
  <cp:revision>69</cp:revision>
  <dc:subject>主题班会课件(分28大类): http://shop62905894.taobao.com</dc:subject>
  <dc:title>主题班会课件(分28大类): http://shop62905894.taobao.com</dc:title>
</cp:coreProperties>
</file>